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5.png" ContentType="image/png"/>
  <Override PartName="/ppt/media/image24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442A-855E-4F13-BD32-66D46C6F7FF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0FD5-38D3-4002-BF8C-A58C8E3CBFD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F64B-2A14-4DC7-A9EE-FE918C6C4A9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F73D-77FD-439C-A5A7-07D61F61ACA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DD01-E899-4FCF-BE0F-E97C140D0E4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F19A-7298-4EF0-AA97-C1A8DAFBB92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1CE4-3630-4319-A125-64A7E80A461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0EE0-3B3A-4D68-9515-5A78E7B81DF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CBE6-E0C6-4384-BE42-FD07D40A08B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09A1-924D-4262-9197-E00E68B118C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4A6C-5F60-4EDF-8C7E-9646A50F947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DF46-240E-4F29-8AD4-65ED5F91CF3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AED1-3513-405B-8FBC-E50F3D71111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22DB-0F5E-4CB7-A9DB-FEFABB6630C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BF67-EE92-49CB-8AEB-0A2DFB14D20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2F14-0941-4D1D-B66C-64C0565E58B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0879-405C-409A-8CD5-02F0345F30A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5C6F-99B4-42DC-9FB4-49097C02284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967-A38A-4A17-BA5C-ED2A4367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B05-F3E4-441F-998D-E386204F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E5A-BB71-4DC9-B304-31907770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F5E-BD46-4EF2-935D-C06EDFA8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593-691F-45A3-9F20-E5EFC2EF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A74-68E1-4330-ABD1-321F16FE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A50-4100-4464-9E06-4DA3E01C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0D0-634B-4E08-915E-71ADFCCB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19B-053D-4676-8028-1104CF61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CC4-0598-43BB-B952-E652279F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600-A603-4E90-8E1A-774677C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2F8-8B2C-463E-8FD3-B279290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037C-50CE-45F5-B1C1-332872774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8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xd_UT84qb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d/2005PoinsettaBowl-Navy-LO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Special Yea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Diagram 7"/>
          <p:cNvGrpSpPr/>
          <p:nvPr/>
        </p:nvGrpSpPr>
        <p:grpSpPr>
          <a:xfrm>
            <a:off x="2450160" y="1857960"/>
            <a:ext cx="4700520" cy="4772160"/>
            <a:chOff x="2450160" y="1857960"/>
            <a:chExt cx="4700520" cy="4772160"/>
          </a:xfrm>
        </p:grpSpPr>
        <p:sp>
          <p:nvSpPr>
            <p:cNvPr id="82" name="_s2052"/>
            <p:cNvSpPr/>
            <p:nvPr/>
          </p:nvSpPr>
          <p:spPr>
            <a:xfrm flipH="1">
              <a:off x="3668760" y="5159880"/>
              <a:ext cx="563400" cy="3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3"/>
            <p:cNvSpPr/>
            <p:nvPr/>
          </p:nvSpPr>
          <p:spPr>
            <a:xfrm>
              <a:off x="2450160" y="51620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rs &amp; Sp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4"/>
            <p:cNvSpPr/>
            <p:nvPr/>
          </p:nvSpPr>
          <p:spPr>
            <a:xfrm>
              <a:off x="5365800" y="5162040"/>
              <a:ext cx="56556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5"/>
            <p:cNvSpPr/>
            <p:nvPr/>
          </p:nvSpPr>
          <p:spPr>
            <a:xfrm>
              <a:off x="5843880" y="515988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ord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6"/>
            <p:cNvSpPr/>
            <p:nvPr/>
          </p:nvSpPr>
          <p:spPr>
            <a:xfrm flipV="1">
              <a:off x="4800240" y="3326040"/>
              <a:ext cx="0" cy="7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7"/>
            <p:cNvSpPr/>
            <p:nvPr/>
          </p:nvSpPr>
          <p:spPr>
            <a:xfrm>
              <a:off x="4146840" y="185796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gic vs. Bi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8"/>
            <p:cNvSpPr/>
            <p:nvPr/>
          </p:nvSpPr>
          <p:spPr>
            <a:xfrm>
              <a:off x="4146840" y="40604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1" descr="michael_jordan1242892345"/>
          <p:cNvPicPr/>
          <p:nvPr/>
        </p:nvPicPr>
        <p:blipFill>
          <a:blip r:embed="rId1"/>
          <a:stretch/>
        </p:blipFill>
        <p:spPr>
          <a:xfrm>
            <a:off x="7315200" y="4572000"/>
            <a:ext cx="164628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Magic_Bird_Lipofsky"/>
          <p:cNvPicPr/>
          <p:nvPr/>
        </p:nvPicPr>
        <p:blipFill>
          <a:blip r:embed="rId2"/>
          <a:stretch/>
        </p:blipFill>
        <p:spPr>
          <a:xfrm>
            <a:off x="5791320" y="1752480"/>
            <a:ext cx="1779480" cy="225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See full size image"/>
          <p:cNvPicPr/>
          <p:nvPr/>
        </p:nvPicPr>
        <p:blipFill>
          <a:blip r:embed="rId3"/>
          <a:stretch/>
        </p:blipFill>
        <p:spPr>
          <a:xfrm>
            <a:off x="685800" y="31240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spurs"/>
          <p:cNvPicPr/>
          <p:nvPr/>
        </p:nvPicPr>
        <p:blipFill>
          <a:blip r:embed="rId4"/>
          <a:stretch/>
        </p:blipFill>
        <p:spPr>
          <a:xfrm>
            <a:off x="380880" y="4876920"/>
            <a:ext cx="201960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pionships ABA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70, 1972, 1973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Divi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Pace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Indiana Pacers logo"/>
          <p:cNvPicPr/>
          <p:nvPr/>
        </p:nvPicPr>
        <p:blipFill>
          <a:blip r:embed="rId1"/>
          <a:stretch/>
        </p:blipFill>
        <p:spPr>
          <a:xfrm>
            <a:off x="6858000" y="304920"/>
            <a:ext cx="1447920" cy="12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ndiana Pacers logo"/>
          <p:cNvPicPr/>
          <p:nvPr/>
        </p:nvPicPr>
        <p:blipFill>
          <a:blip r:embed="rId2"/>
          <a:stretch/>
        </p:blipFill>
        <p:spPr>
          <a:xfrm>
            <a:off x="1219320" y="304920"/>
            <a:ext cx="1447560" cy="12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ee full size image"/>
          <p:cNvPicPr/>
          <p:nvPr/>
        </p:nvPicPr>
        <p:blipFill>
          <a:blip r:embed="rId3"/>
          <a:stretch/>
        </p:blipFill>
        <p:spPr>
          <a:xfrm>
            <a:off x="5715000" y="342900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1" descr="cleveland_cavaliers_logo"/>
          <p:cNvPicPr/>
          <p:nvPr/>
        </p:nvPicPr>
        <p:blipFill>
          <a:blip r:embed="rId4"/>
          <a:stretch/>
        </p:blipFill>
        <p:spPr>
          <a:xfrm>
            <a:off x="4648320" y="4800600"/>
            <a:ext cx="1828800" cy="969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7" descr="See full size image"/>
          <p:cNvPicPr/>
          <p:nvPr/>
        </p:nvPicPr>
        <p:blipFill>
          <a:blip r:embed="rId5"/>
          <a:stretch/>
        </p:blipFill>
        <p:spPr>
          <a:xfrm>
            <a:off x="7315200" y="3581280"/>
            <a:ext cx="1266840" cy="9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Indiana Pacers logo"/>
          <p:cNvPicPr/>
          <p:nvPr/>
        </p:nvPicPr>
        <p:blipFill>
          <a:blip r:embed="rId6"/>
          <a:stretch/>
        </p:blipFill>
        <p:spPr>
          <a:xfrm>
            <a:off x="7696080" y="4648320"/>
            <a:ext cx="1447920" cy="1258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2" descr="Milwaukee-Bucks"/>
          <p:cNvPicPr/>
          <p:nvPr/>
        </p:nvPicPr>
        <p:blipFill>
          <a:blip r:embed="rId7"/>
          <a:stretch/>
        </p:blipFill>
        <p:spPr>
          <a:xfrm>
            <a:off x="6477120" y="5105520"/>
            <a:ext cx="12952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3448635375_483d3fb888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a bat-and-ball sport played between two teams of nine players each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th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ity-1860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pl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18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y or pri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England (early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aseball2"/>
          <p:cNvPicPr/>
          <p:nvPr/>
        </p:nvPicPr>
        <p:blipFill>
          <a:blip r:embed="rId1"/>
          <a:stretch/>
        </p:blipFill>
        <p:spPr>
          <a:xfrm>
            <a:off x="5029200" y="2743200"/>
            <a:ext cx="34290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500px-Baseball_diamo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b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MLB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League ha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in existence since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 of all baseba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 is to play in th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g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ajor League Baseball.svg"/>
          <p:cNvPicPr/>
          <p:nvPr/>
        </p:nvPicPr>
        <p:blipFill>
          <a:blip r:embed="rId1"/>
          <a:stretch/>
        </p:blipFill>
        <p:spPr>
          <a:xfrm>
            <a:off x="3505320" y="1295280"/>
            <a:ext cx="214308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FP4207_MLB-Logos-Posters"/>
          <p:cNvPicPr/>
          <p:nvPr/>
        </p:nvPicPr>
        <p:blipFill>
          <a:blip r:embed="rId2"/>
          <a:stretch/>
        </p:blipFill>
        <p:spPr>
          <a:xfrm>
            <a:off x="5715000" y="0"/>
            <a:ext cx="340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xd_UT84qb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Football is known in the United States simply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tb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mpetitive team sport known for combining strategy with physical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rican Football is also played in others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File:2005PoinsettaBowl-Navy-L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541600"/>
            <a:ext cx="464832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8584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erican Football can be traced to a new version of Rug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rted in highs schools of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footb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in 18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gameplan"/>
          <p:cNvPicPr/>
          <p:nvPr/>
        </p:nvPicPr>
        <p:blipFill>
          <a:blip r:embed="rId1"/>
          <a:stretch/>
        </p:blipFill>
        <p:spPr>
          <a:xfrm>
            <a:off x="228600" y="1752480"/>
            <a:ext cx="335268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eague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600200" y="4419720"/>
            <a:ext cx="784080" cy="102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94428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7315200" y="1143000"/>
            <a:ext cx="101268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7543800" y="3124080"/>
            <a:ext cx="746280" cy="74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colts"/>
          <p:cNvPicPr/>
          <p:nvPr/>
        </p:nvPicPr>
        <p:blipFill>
          <a:blip r:embed="rId3"/>
          <a:stretch/>
        </p:blipFill>
        <p:spPr>
          <a:xfrm>
            <a:off x="3200400" y="152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2095560" cy="2308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5"/>
          <a:stretch/>
        </p:blipFill>
        <p:spPr>
          <a:xfrm>
            <a:off x="2362320" y="3892680"/>
            <a:ext cx="441936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1332000" cy="30258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2820960" y="495252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Basketbal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City on June 6, 1946 as the B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teams play in the NBA… 29 from USA and 1 from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BA now regards as the first game played in the league's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Organization Chart 7"/>
          <p:cNvGrpSpPr/>
          <p:nvPr/>
        </p:nvGrpSpPr>
        <p:grpSpPr>
          <a:xfrm>
            <a:off x="4648320" y="1600200"/>
            <a:ext cx="4037760" cy="4524480"/>
            <a:chOff x="4648320" y="1600200"/>
            <a:chExt cx="4037760" cy="4524480"/>
          </a:xfrm>
        </p:grpSpPr>
        <p:cxnSp>
          <p:nvCxnSpPr>
            <p:cNvPr id="71" name="_s1028"/>
            <p:cNvCxnSpPr>
              <a:stCxn id="72" idx="0"/>
              <a:endCxn id="73" idx="2"/>
            </p:cNvCxnSpPr>
            <p:nvPr/>
          </p:nvCxnSpPr>
          <p:spPr>
            <a:xfrm flipV="1" rot="16200000">
              <a:off x="6918480" y="3327840"/>
              <a:ext cx="564840" cy="106812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29"/>
            <p:cNvCxnSpPr>
              <a:stCxn id="75" idx="0"/>
              <a:endCxn id="73" idx="2"/>
            </p:cNvCxnSpPr>
            <p:nvPr/>
          </p:nvCxnSpPr>
          <p:spPr>
            <a:xfrm flipH="1" flipV="1" rot="5400000">
              <a:off x="5850720" y="3327840"/>
              <a:ext cx="564840" cy="106848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030"/>
            <p:cNvSpPr/>
            <p:nvPr/>
          </p:nvSpPr>
          <p:spPr>
            <a:xfrm>
              <a:off x="5716440" y="160020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464832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Amer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2"/>
            <p:cNvSpPr/>
            <p:nvPr/>
          </p:nvSpPr>
          <p:spPr>
            <a:xfrm>
              <a:off x="678384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NBA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7:15:13Z</dcterms:created>
  <dc:creator>*</dc:creator>
  <dc:description/>
  <dc:language>en-US</dc:language>
  <cp:lastModifiedBy>Otro</cp:lastModifiedBy>
  <dcterms:modified xsi:type="dcterms:W3CDTF">2010-07-20T17:08:39Z</dcterms:modified>
  <cp:revision>12</cp:revision>
  <dc:subject/>
  <dc:title>Sports in USA</dc:title>
</cp:coreProperties>
</file>