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B282-02CB-423F-867E-F6B76990D6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FF7-7456-4DCE-8E7D-07346F0AB70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2F33-C6CE-47BB-82EC-B4A7181FC0D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DC06-42F9-4BB6-8776-17B7436F8DD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E218-070F-470E-B5F8-5B3F41847FC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2FF-B94A-43F2-83B7-17F7EB5066C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67C7-E4BF-4EE3-BB67-BC8D54C931A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B6F8-DB40-4DDA-B044-700FCD11ACF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F53-29E0-4337-9B89-4E8BC1D35BF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C57-79DA-46B7-995D-5DDE5E79A6E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F933-C7AE-4CFE-BF5C-DE12C7A9F4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DED-6918-4706-A979-75EA783B323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287-3524-4C30-9507-039E6CB2948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EFF6-B4C0-4C83-B5EA-C09A7F9061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19D-D4A0-4CF8-BA81-54CF4217EB1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AE71-6F0A-4719-816E-76EE8CA9FFF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88DF-4CC5-4BF4-B0D2-8929E961DCE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461D-12D1-4CE7-9F24-500D54D3A5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D4E-1DD1-48E5-B181-AB0F2DE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E99-26BD-4A6E-B467-A08D54B5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AF5-98C2-48C8-8813-135F226F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22D-72F3-42EC-8548-6B6D4B61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F93-E081-411F-81CA-CCD6674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426-8CDD-41A8-AD8C-DC4A7133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0FD-9272-4EAB-92D6-A7923BA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8ED-4423-461C-9BED-14E4B63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45A-F505-46D5-A722-C10EBB5D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95C-9E1F-4CD5-B02A-EDCCD83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417-5460-4D93-BA88-03373F49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423-E632-40CE-A4F2-BB560FB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37B-80B9-4F21-8770-7965D8F9B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d_UT84qb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2005PoinsettaBowl-Navy-LO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pecial Yea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7"/>
          <p:cNvGrpSpPr/>
          <p:nvPr/>
        </p:nvGrpSpPr>
        <p:grpSpPr>
          <a:xfrm>
            <a:off x="2450160" y="1857960"/>
            <a:ext cx="4700520" cy="4772160"/>
            <a:chOff x="2450160" y="1857960"/>
            <a:chExt cx="4700520" cy="4772160"/>
          </a:xfrm>
        </p:grpSpPr>
        <p:sp>
          <p:nvSpPr>
            <p:cNvPr id="82" name="_s2052"/>
            <p:cNvSpPr/>
            <p:nvPr/>
          </p:nvSpPr>
          <p:spPr>
            <a:xfrm flipH="1">
              <a:off x="3668760" y="5159880"/>
              <a:ext cx="563400" cy="3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450160" y="51620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rs &amp; Sp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365800" y="5162040"/>
              <a:ext cx="56556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843880" y="515988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r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800240" y="3326040"/>
              <a:ext cx="0" cy="7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146840" y="185796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ic vs. Bi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146840" y="40604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1" descr="michael_jordan1242892345"/>
          <p:cNvPicPr/>
          <p:nvPr/>
        </p:nvPicPr>
        <p:blipFill>
          <a:blip r:embed="rId1"/>
          <a:stretch/>
        </p:blipFill>
        <p:spPr>
          <a:xfrm>
            <a:off x="7315200" y="45720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Magic_Bird_Lipofsky"/>
          <p:cNvPicPr/>
          <p:nvPr/>
        </p:nvPicPr>
        <p:blipFill>
          <a:blip r:embed="rId2"/>
          <a:stretch/>
        </p:blipFill>
        <p:spPr>
          <a:xfrm>
            <a:off x="5791320" y="1752480"/>
            <a:ext cx="1779480" cy="225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See full size image"/>
          <p:cNvPicPr/>
          <p:nvPr/>
        </p:nvPicPr>
        <p:blipFill>
          <a:blip r:embed="rId3"/>
          <a:stretch/>
        </p:blipFill>
        <p:spPr>
          <a:xfrm>
            <a:off x="685800" y="3124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spurs"/>
          <p:cNvPicPr/>
          <p:nvPr/>
        </p:nvPicPr>
        <p:blipFill>
          <a:blip r:embed="rId4"/>
          <a:stretch/>
        </p:blipFill>
        <p:spPr>
          <a:xfrm>
            <a:off x="380880" y="4876920"/>
            <a:ext cx="201960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pionships AB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0, 1972, 1973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i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e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ndiana Pacers logo"/>
          <p:cNvPicPr/>
          <p:nvPr/>
        </p:nvPicPr>
        <p:blipFill>
          <a:blip r:embed="rId1"/>
          <a:stretch/>
        </p:blipFill>
        <p:spPr>
          <a:xfrm>
            <a:off x="6858000" y="304920"/>
            <a:ext cx="1447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ndiana Pacers logo"/>
          <p:cNvPicPr/>
          <p:nvPr/>
        </p:nvPicPr>
        <p:blipFill>
          <a:blip r:embed="rId2"/>
          <a:stretch/>
        </p:blipFill>
        <p:spPr>
          <a:xfrm>
            <a:off x="121932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ee full size image"/>
          <p:cNvPicPr/>
          <p:nvPr/>
        </p:nvPicPr>
        <p:blipFill>
          <a:blip r:embed="rId3"/>
          <a:stretch/>
        </p:blipFill>
        <p:spPr>
          <a:xfrm>
            <a:off x="5715000" y="34290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cleveland_cavaliers_logo"/>
          <p:cNvPicPr/>
          <p:nvPr/>
        </p:nvPicPr>
        <p:blipFill>
          <a:blip r:embed="rId4"/>
          <a:stretch/>
        </p:blipFill>
        <p:spPr>
          <a:xfrm>
            <a:off x="4648320" y="4800600"/>
            <a:ext cx="18288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See full size image"/>
          <p:cNvPicPr/>
          <p:nvPr/>
        </p:nvPicPr>
        <p:blipFill>
          <a:blip r:embed="rId5"/>
          <a:stretch/>
        </p:blipFill>
        <p:spPr>
          <a:xfrm>
            <a:off x="7315200" y="358128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Indiana Pacers logo"/>
          <p:cNvPicPr/>
          <p:nvPr/>
        </p:nvPicPr>
        <p:blipFill>
          <a:blip r:embed="rId6"/>
          <a:stretch/>
        </p:blipFill>
        <p:spPr>
          <a:xfrm>
            <a:off x="7696080" y="4648320"/>
            <a:ext cx="14479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2" descr="Milwaukee-Bucks"/>
          <p:cNvPicPr/>
          <p:nvPr/>
        </p:nvPicPr>
        <p:blipFill>
          <a:blip r:embed="rId7"/>
          <a:stretch/>
        </p:blipFill>
        <p:spPr>
          <a:xfrm>
            <a:off x="6477120" y="51055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3448635375_483d3fb888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a bat-and-ball sport played between two teams of nine players eac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-1860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pl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 or pri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England (earl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seball2"/>
          <p:cNvPicPr/>
          <p:nvPr/>
        </p:nvPicPr>
        <p:blipFill>
          <a:blip r:embed="rId1"/>
          <a:stretch/>
        </p:blipFill>
        <p:spPr>
          <a:xfrm>
            <a:off x="5029200" y="274320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500px-Baseball_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LB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eague ha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in existence since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of all baseb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 is to play in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ajor League Baseball.svg"/>
          <p:cNvPicPr/>
          <p:nvPr/>
        </p:nvPicPr>
        <p:blipFill>
          <a:blip r:embed="rId1"/>
          <a:stretch/>
        </p:blipFill>
        <p:spPr>
          <a:xfrm>
            <a:off x="3505320" y="1295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P4207_MLB-Logos-Posters"/>
          <p:cNvPicPr/>
          <p:nvPr/>
        </p:nvPicPr>
        <p:blipFill>
          <a:blip r:embed="rId2"/>
          <a:stretch/>
        </p:blipFill>
        <p:spPr>
          <a:xfrm>
            <a:off x="5715000" y="0"/>
            <a:ext cx="340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xd_UT84q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ootball is known in the United States simply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petitive team sport known for combining strategy with physical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Football is also played in others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ile:2005PoinsettaBowl-Navy-L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541600"/>
            <a:ext cx="464832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Football can be traced to a new version of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in highs schools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footb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in 1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ameplan"/>
          <p:cNvPicPr/>
          <p:nvPr/>
        </p:nvPicPr>
        <p:blipFill>
          <a:blip r:embed="rId1"/>
          <a:stretch/>
        </p:blipFill>
        <p:spPr>
          <a:xfrm>
            <a:off x="228600" y="175248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eagu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78408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9442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01268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olts"/>
          <p:cNvPicPr/>
          <p:nvPr/>
        </p:nvPicPr>
        <p:blipFill>
          <a:blip r:embed="rId3"/>
          <a:stretch/>
        </p:blipFill>
        <p:spPr>
          <a:xfrm>
            <a:off x="320040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209556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2362320" y="3892680"/>
            <a:ext cx="441936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1332000" cy="3025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820960" y="49525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Basketbal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City on June 6, 1946 as the B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eams play in the NBA… 29 from USA and 1 from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BA now regards as the first game played in the league's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7"/>
          <p:cNvGrpSpPr/>
          <p:nvPr/>
        </p:nvGrpSpPr>
        <p:grpSpPr>
          <a:xfrm>
            <a:off x="4648320" y="1600200"/>
            <a:ext cx="4037760" cy="4524480"/>
            <a:chOff x="4648320" y="1600200"/>
            <a:chExt cx="403776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6918480" y="3327840"/>
              <a:ext cx="564840" cy="106812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5850720" y="3327840"/>
              <a:ext cx="564840" cy="106848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0"/>
            <p:cNvSpPr/>
            <p:nvPr/>
          </p:nvSpPr>
          <p:spPr>
            <a:xfrm>
              <a:off x="5716440" y="160020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464832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mer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678384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NB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15:13Z</dcterms:created>
  <dc:creator>*</dc:creator>
  <dc:description/>
  <dc:language>en-US</dc:language>
  <cp:lastModifiedBy>Otro</cp:lastModifiedBy>
  <dcterms:modified xsi:type="dcterms:W3CDTF">2010-07-20T17:08:39Z</dcterms:modified>
  <cp:revision>12</cp:revision>
  <dc:subject/>
  <dc:title>Sports in USA</dc:title>
</cp:coreProperties>
</file>