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5.png" ContentType="image/png"/>
  <Override PartName="/ppt/media/image24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0.png" ContentType="image/png"/>
  <Override PartName="/ppt/media/image27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22CB-EE40-496E-8ED2-3EC81916312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D7FC-76F8-411D-BD29-C0CDBEE2251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D9A2-7D10-4052-A9AB-B156AD6D6B1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B38B-0135-434A-A8F3-E3410ABDF5C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20C7-B335-462C-8D80-38C22B8F948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5DD8-929B-4EC0-AEAA-560AAFF663B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5F6F-56F0-484C-AE9F-F73973A7C34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192C-F88B-4ED6-B1AF-E2538B44BBB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0316-2228-4933-94D3-1A219ECEC0F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E2F2-ED92-4A49-87ED-A8B8D025519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41B3-800C-4D6E-A360-CC432ADE9C7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EB5E-CA37-4723-B2A4-0ED89C74C6E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6EA4-3BE3-4F23-B7CF-97829FD8169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0691-9E0F-42F5-9861-76D17A4FC43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585C-06C5-498A-8B9A-8AE00532B44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C92F-8A26-4D95-B30D-EFCE08C9088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EFF3-8562-4DA5-BDC1-173E817AA44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00A1-10DF-44FC-AD4F-1AA55D7A251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B45-DB8E-4937-823C-42BD4B1F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F5E-7DDF-4523-AB30-D51A12DA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096-AE2D-45FC-B819-A9E84804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B8A-8ACA-4D18-9520-F02223B6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5648-5D78-469A-9645-4FD3163C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17D-9A7A-480C-91C7-D06FDCEA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BB7-B244-4B6D-AFA0-4543FC05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902-393B-48E3-85B9-50AFC60B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368-71EF-4E30-93CF-E318F914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A11-6B16-4CC6-8528-753621E5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A36-9357-48B7-BB1C-B3CF7A8A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2AA-FE8D-4375-864F-2DE9AB4B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A8C6-4A3C-44C5-8017-EC6A4BACD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18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xd_UT84qb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d/2005PoinsettaBowl-Navy-LO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in 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762120" y="579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Special Year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Diagram 7"/>
          <p:cNvGrpSpPr/>
          <p:nvPr/>
        </p:nvGrpSpPr>
        <p:grpSpPr>
          <a:xfrm>
            <a:off x="2450160" y="1857960"/>
            <a:ext cx="4700520" cy="4772160"/>
            <a:chOff x="2450160" y="1857960"/>
            <a:chExt cx="4700520" cy="4772160"/>
          </a:xfrm>
        </p:grpSpPr>
        <p:sp>
          <p:nvSpPr>
            <p:cNvPr id="82" name="_s2052"/>
            <p:cNvSpPr/>
            <p:nvPr/>
          </p:nvSpPr>
          <p:spPr>
            <a:xfrm flipH="1">
              <a:off x="3668760" y="5159880"/>
              <a:ext cx="563400" cy="3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53"/>
            <p:cNvSpPr/>
            <p:nvPr/>
          </p:nvSpPr>
          <p:spPr>
            <a:xfrm>
              <a:off x="2450160" y="516204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kers &amp; Sp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54"/>
            <p:cNvSpPr/>
            <p:nvPr/>
          </p:nvSpPr>
          <p:spPr>
            <a:xfrm>
              <a:off x="5365800" y="5162040"/>
              <a:ext cx="565560" cy="36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5"/>
            <p:cNvSpPr/>
            <p:nvPr/>
          </p:nvSpPr>
          <p:spPr>
            <a:xfrm>
              <a:off x="5843880" y="515988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0'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ord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56"/>
            <p:cNvSpPr/>
            <p:nvPr/>
          </p:nvSpPr>
          <p:spPr>
            <a:xfrm flipV="1">
              <a:off x="4800240" y="3326040"/>
              <a:ext cx="0" cy="7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57"/>
            <p:cNvSpPr/>
            <p:nvPr/>
          </p:nvSpPr>
          <p:spPr>
            <a:xfrm>
              <a:off x="4146840" y="185796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0'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gic vs. Bi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58"/>
            <p:cNvSpPr/>
            <p:nvPr/>
          </p:nvSpPr>
          <p:spPr>
            <a:xfrm>
              <a:off x="4146840" y="406044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1" descr="michael_jordan1242892345"/>
          <p:cNvPicPr/>
          <p:nvPr/>
        </p:nvPicPr>
        <p:blipFill>
          <a:blip r:embed="rId1"/>
          <a:stretch/>
        </p:blipFill>
        <p:spPr>
          <a:xfrm>
            <a:off x="7315200" y="4572000"/>
            <a:ext cx="164628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Magic_Bird_Lipofsky"/>
          <p:cNvPicPr/>
          <p:nvPr/>
        </p:nvPicPr>
        <p:blipFill>
          <a:blip r:embed="rId2"/>
          <a:stretch/>
        </p:blipFill>
        <p:spPr>
          <a:xfrm>
            <a:off x="5791320" y="1752480"/>
            <a:ext cx="1779480" cy="2257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6" descr="See full size image"/>
          <p:cNvPicPr/>
          <p:nvPr/>
        </p:nvPicPr>
        <p:blipFill>
          <a:blip r:embed="rId3"/>
          <a:stretch/>
        </p:blipFill>
        <p:spPr>
          <a:xfrm>
            <a:off x="685800" y="31240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spurs"/>
          <p:cNvPicPr/>
          <p:nvPr/>
        </p:nvPicPr>
        <p:blipFill>
          <a:blip r:embed="rId4"/>
          <a:stretch/>
        </p:blipFill>
        <p:spPr>
          <a:xfrm>
            <a:off x="380880" y="4876920"/>
            <a:ext cx="201960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mpionships ABA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70, 1972, 1973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Divis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Pacer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Indiana Pacers logo"/>
          <p:cNvPicPr/>
          <p:nvPr/>
        </p:nvPicPr>
        <p:blipFill>
          <a:blip r:embed="rId1"/>
          <a:stretch/>
        </p:blipFill>
        <p:spPr>
          <a:xfrm>
            <a:off x="6858000" y="304920"/>
            <a:ext cx="1447920" cy="125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Indiana Pacers logo"/>
          <p:cNvPicPr/>
          <p:nvPr/>
        </p:nvPicPr>
        <p:blipFill>
          <a:blip r:embed="rId2"/>
          <a:stretch/>
        </p:blipFill>
        <p:spPr>
          <a:xfrm>
            <a:off x="1219320" y="304920"/>
            <a:ext cx="1447560" cy="12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See full size image"/>
          <p:cNvPicPr/>
          <p:nvPr/>
        </p:nvPicPr>
        <p:blipFill>
          <a:blip r:embed="rId3"/>
          <a:stretch/>
        </p:blipFill>
        <p:spPr>
          <a:xfrm>
            <a:off x="5715000" y="3429000"/>
            <a:ext cx="1390680" cy="13906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1" descr="cleveland_cavaliers_logo"/>
          <p:cNvPicPr/>
          <p:nvPr/>
        </p:nvPicPr>
        <p:blipFill>
          <a:blip r:embed="rId4"/>
          <a:stretch/>
        </p:blipFill>
        <p:spPr>
          <a:xfrm>
            <a:off x="4648320" y="4800600"/>
            <a:ext cx="1828800" cy="9698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7" descr="See full size image"/>
          <p:cNvPicPr/>
          <p:nvPr/>
        </p:nvPicPr>
        <p:blipFill>
          <a:blip r:embed="rId5"/>
          <a:stretch/>
        </p:blipFill>
        <p:spPr>
          <a:xfrm>
            <a:off x="7315200" y="3581280"/>
            <a:ext cx="1266840" cy="97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8" descr="Indiana Pacers logo"/>
          <p:cNvPicPr/>
          <p:nvPr/>
        </p:nvPicPr>
        <p:blipFill>
          <a:blip r:embed="rId6"/>
          <a:stretch/>
        </p:blipFill>
        <p:spPr>
          <a:xfrm>
            <a:off x="7696080" y="4648320"/>
            <a:ext cx="1447920" cy="1258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2" descr="Milwaukee-Bucks"/>
          <p:cNvPicPr/>
          <p:nvPr/>
        </p:nvPicPr>
        <p:blipFill>
          <a:blip r:embed="rId7"/>
          <a:stretch/>
        </p:blipFill>
        <p:spPr>
          <a:xfrm>
            <a:off x="6477120" y="5105520"/>
            <a:ext cx="129528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3448635375_483d3fb888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is a bat-and-ball sport played between two teams of nine players each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th centu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ity-1860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play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18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ury or pri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England (early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aseball2"/>
          <p:cNvPicPr/>
          <p:nvPr/>
        </p:nvPicPr>
        <p:blipFill>
          <a:blip r:embed="rId1"/>
          <a:stretch/>
        </p:blipFill>
        <p:spPr>
          <a:xfrm>
            <a:off x="5029200" y="2743200"/>
            <a:ext cx="342900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500px-Baseball_diamo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ba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MLB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League hav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n in existence since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 of all baseba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 is to play in th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g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ajor League Baseball.svg"/>
          <p:cNvPicPr/>
          <p:nvPr/>
        </p:nvPicPr>
        <p:blipFill>
          <a:blip r:embed="rId1"/>
          <a:stretch/>
        </p:blipFill>
        <p:spPr>
          <a:xfrm>
            <a:off x="3505320" y="1295280"/>
            <a:ext cx="214308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FP4207_MLB-Logos-Posters"/>
          <p:cNvPicPr/>
          <p:nvPr/>
        </p:nvPicPr>
        <p:blipFill>
          <a:blip r:embed="rId2"/>
          <a:stretch/>
        </p:blipFill>
        <p:spPr>
          <a:xfrm>
            <a:off x="5715000" y="0"/>
            <a:ext cx="340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xd_UT84qb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in 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Football is known in the United States simply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tb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competitive team sport known for combining strategy with physical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erican Football is also played in others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File:2005PoinsettaBowl-Navy-L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541600"/>
            <a:ext cx="464832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85840" y="16765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erican Football can be traced to a new version of Rug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arted in highs schools of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igi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 footba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in 18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gameplan"/>
          <p:cNvPicPr/>
          <p:nvPr/>
        </p:nvPicPr>
        <p:blipFill>
          <a:blip r:embed="rId1"/>
          <a:stretch/>
        </p:blipFill>
        <p:spPr>
          <a:xfrm>
            <a:off x="228600" y="1752480"/>
            <a:ext cx="335268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eague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1600200" y="4419720"/>
            <a:ext cx="784080" cy="102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3"/>
          <a:stretch/>
        </p:blipFill>
        <p:spPr>
          <a:xfrm>
            <a:off x="6934320" y="4648320"/>
            <a:ext cx="944280" cy="7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7315200" y="1143000"/>
            <a:ext cx="101268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"/>
          <p:cNvPicPr/>
          <p:nvPr/>
        </p:nvPicPr>
        <p:blipFill>
          <a:blip r:embed="rId2"/>
          <a:stretch/>
        </p:blipFill>
        <p:spPr>
          <a:xfrm>
            <a:off x="7543800" y="3124080"/>
            <a:ext cx="746280" cy="74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colts"/>
          <p:cNvPicPr/>
          <p:nvPr/>
        </p:nvPicPr>
        <p:blipFill>
          <a:blip r:embed="rId3"/>
          <a:stretch/>
        </p:blipFill>
        <p:spPr>
          <a:xfrm>
            <a:off x="3200400" y="152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304920" y="1295280"/>
            <a:ext cx="2095560" cy="2308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5"/>
          <a:stretch/>
        </p:blipFill>
        <p:spPr>
          <a:xfrm>
            <a:off x="2362320" y="3892680"/>
            <a:ext cx="4419360" cy="29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1332000" cy="30258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2820960" y="495252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Basketball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 City on June 6, 1946 as the B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teams play in the NBA… 29 from USA and 1 from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BA now regards as the first game played in the league's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Organization Chart 7"/>
          <p:cNvGrpSpPr/>
          <p:nvPr/>
        </p:nvGrpSpPr>
        <p:grpSpPr>
          <a:xfrm>
            <a:off x="4648320" y="1600200"/>
            <a:ext cx="4037760" cy="4524480"/>
            <a:chOff x="4648320" y="1600200"/>
            <a:chExt cx="4037760" cy="4524480"/>
          </a:xfrm>
        </p:grpSpPr>
        <p:cxnSp>
          <p:nvCxnSpPr>
            <p:cNvPr id="71" name="_s1028"/>
            <p:cNvCxnSpPr>
              <a:stCxn id="72" idx="0"/>
              <a:endCxn id="73" idx="2"/>
            </p:cNvCxnSpPr>
            <p:nvPr/>
          </p:nvCxnSpPr>
          <p:spPr>
            <a:xfrm flipV="1" rot="16200000">
              <a:off x="6918480" y="3327840"/>
              <a:ext cx="564840" cy="1068120"/>
            </a:xfrm>
            <a:prstGeom prst="bentConnector3">
              <a:avLst>
                <a:gd name="adj1" fmla="val 202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29"/>
            <p:cNvCxnSpPr>
              <a:stCxn id="75" idx="0"/>
              <a:endCxn id="73" idx="2"/>
            </p:cNvCxnSpPr>
            <p:nvPr/>
          </p:nvCxnSpPr>
          <p:spPr>
            <a:xfrm flipH="1" flipV="1" rot="5400000">
              <a:off x="5850720" y="3327840"/>
              <a:ext cx="564840" cy="1068480"/>
            </a:xfrm>
            <a:prstGeom prst="bentConnector3">
              <a:avLst>
                <a:gd name="adj1" fmla="val 202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1030"/>
            <p:cNvSpPr/>
            <p:nvPr/>
          </p:nvSpPr>
          <p:spPr>
            <a:xfrm>
              <a:off x="5716440" y="160020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1"/>
            <p:cNvSpPr/>
            <p:nvPr/>
          </p:nvSpPr>
          <p:spPr>
            <a:xfrm>
              <a:off x="4648320" y="414468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Amer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2"/>
            <p:cNvSpPr/>
            <p:nvPr/>
          </p:nvSpPr>
          <p:spPr>
            <a:xfrm>
              <a:off x="6783840" y="414468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B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g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NBA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7:15:13Z</dcterms:created>
  <dc:creator>*</dc:creator>
  <dc:description/>
  <dc:language>en-US</dc:language>
  <cp:lastModifiedBy>Otro</cp:lastModifiedBy>
  <dcterms:modified xsi:type="dcterms:W3CDTF">2010-07-20T17:08:39Z</dcterms:modified>
  <cp:revision>12</cp:revision>
  <dc:subject/>
  <dc:title>Sports in USA</dc:title>
</cp:coreProperties>
</file>