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AE42-D390-4770-B90F-837379FA8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6DC2-6BC8-4E9F-B3BC-46B57FA4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AD07-8FAC-4867-9D75-41B468E4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3A2-155C-4CDB-AD6A-4EA0E473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5A9-DEF3-433C-919B-AB4BEF46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7B47-8D51-4611-93B4-8AC912D1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DD1-7A2B-4FF8-A008-B04914E3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4E3-548A-4762-B93F-D3AF9E2B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BDD8-020F-4026-8008-EE3045D07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6998-351D-4112-8B69-436F8F884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57C-FCF1-46AD-91F5-BBA7D0C0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21C0-8C5C-40E4-9E3B-FADBA2D2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43F9-E2E8-4D48-B276-BCDD12B8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D85-79A1-484A-92F4-434E8A86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000-CA17-49D6-A698-C132DAAF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]15                         0 meno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97C-A0B8-4EE0-B75A-99A6E346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C39-EF5D-4250-9428-15E9DB55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44C-33ED-4D15-9E2A-4EDDE5A0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5F9E-78FB-4471-9E52-81A20072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68A-33B3-4518-BA66-B82E8E55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645-2AFE-42D0-B6B5-9ADE4DF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BB2-5DCF-462F-AE90-7BCF36A2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0F9-6C18-44D6-98E3-68C97903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944-F981-4257-B19E-B6819139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AB63-177E-4C62-BE0C-9EBBA1CE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48BF-4495-4002-9213-6AF18AB0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5851-D83F-486C-A11C-37E2661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6B4-B1A2-4307-8FAD-B9A54942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393-7682-4B4E-94FA-5260B69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EC3D-B09F-4B8E-9BB4-4C035BF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34D-85C8-4B79-ACD2-6163C3EA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A394-C296-4A63-92AE-15C80C0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83F-E49F-4555-830D-F63E5F5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4022-A0C4-48C0-871A-310F2F99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BB06-CF38-4757-8497-BB88F973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1EEE-9BF3-41EB-BDEF-7FDC4002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A21-D985-41C5-95C0-8083E59A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489-C199-4984-9C61-DF2846A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063-CC4C-41D1-BE69-C6961107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082-9381-4337-B7A9-A9FE1722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87E-C23E-40EE-8D7B-9E1D011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538-8D03-4DFB-90E3-7A9AE6A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CE1-56F9-4433-9C17-CAD5763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208-354F-4E74-B325-94436996B7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FA3-9A7F-465F-A180-28E68390AC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mage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t_wayne"/>
          <p:cNvPicPr/>
          <p:nvPr/>
        </p:nvPicPr>
        <p:blipFill>
          <a:blip r:embed="rId2"/>
          <a:stretch/>
        </p:blipFill>
        <p:spPr>
          <a:xfrm>
            <a:off x="1828800" y="2209680"/>
            <a:ext cx="5334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77575877_8b1c66ab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wimag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Skyline-Headwaters_P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fort-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ort-wayne-indiana-courthouse"/>
          <p:cNvPicPr/>
          <p:nvPr/>
        </p:nvPicPr>
        <p:blipFill>
          <a:blip r:embed="rId2"/>
          <a:stretch/>
        </p:blipFill>
        <p:spPr>
          <a:xfrm>
            <a:off x="0" y="0"/>
            <a:ext cx="9372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5055du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3422858-Skyline_at_night_from_Freimann_Square-Fort_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n84680669253_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9" descr="Imagen1"/>
          <p:cNvPicPr/>
          <p:nvPr/>
        </p:nvPicPr>
        <p:blipFill>
          <a:blip r:embed="rId1"/>
          <a:stretch/>
        </p:blipFill>
        <p:spPr>
          <a:xfrm>
            <a:off x="4419720" y="1752480"/>
            <a:ext cx="412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828440"/>
            <a:ext cx="54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te: India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nty: A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pulation: 255.890 inhabita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nsity: 1006.1 hab/k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icial link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www.cityoffortwayne.c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ther nam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mm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ity of all church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 American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MC900299063[2]"/>
          <p:cNvPicPr/>
          <p:nvPr/>
        </p:nvPicPr>
        <p:blipFill>
          <a:blip r:embed="rId1"/>
          <a:stretch/>
        </p:blipFill>
        <p:spPr>
          <a:xfrm>
            <a:off x="506520" y="2209680"/>
            <a:ext cx="2998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43000" y="1771560"/>
            <a:ext cx="624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2856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ies on fairly flat 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hills and dep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main rivers: St Mary river and St Joseph river and Maumee r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one is bathed by numerous lakes and p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207" descr="Imagen2"/>
          <p:cNvPicPr/>
          <p:nvPr/>
        </p:nvPicPr>
        <p:blipFill>
          <a:blip r:embed="rId1"/>
          <a:stretch/>
        </p:blipFill>
        <p:spPr>
          <a:xfrm>
            <a:off x="4724280" y="2309760"/>
            <a:ext cx="4125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3843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http://www.ft-wayne.in.us/home/graphics/hisphoto.gif"/>
          <p:cNvPicPr/>
          <p:nvPr/>
        </p:nvPicPr>
        <p:blipFill>
          <a:blip r:embed="rId1"/>
          <a:stretch/>
        </p:blipFill>
        <p:spPr>
          <a:xfrm>
            <a:off x="3581280" y="4267080"/>
            <a:ext cx="156240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ile:Little Turtle.jpg"/>
          <p:cNvPicPr/>
          <p:nvPr/>
        </p:nvPicPr>
        <p:blipFill>
          <a:blip r:embed="rId2"/>
          <a:stretch/>
        </p:blipFill>
        <p:spPr>
          <a:xfrm>
            <a:off x="5753160" y="1828800"/>
            <a:ext cx="3009960" cy="39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ttp://upload.wikimedia.org/wikipedia/commons/f/f3/Anthony_Wayne.jpg"/>
          <p:cNvPicPr/>
          <p:nvPr/>
        </p:nvPicPr>
        <p:blipFill>
          <a:blip r:embed="rId3"/>
          <a:stretch/>
        </p:blipFill>
        <p:spPr>
          <a:xfrm>
            <a:off x="714240" y="1905120"/>
            <a:ext cx="250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or:Tom Hen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distri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lass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180px-Thomas_Henry_2008"/>
          <p:cNvPicPr/>
          <p:nvPr/>
        </p:nvPicPr>
        <p:blipFill>
          <a:blip r:embed="rId1"/>
          <a:stretch/>
        </p:blipFill>
        <p:spPr>
          <a:xfrm>
            <a:off x="5257800" y="2095560"/>
            <a:ext cx="2209680" cy="369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nkey-democrat-logo copy"/>
          <p:cNvPicPr/>
          <p:nvPr/>
        </p:nvPicPr>
        <p:blipFill>
          <a:blip r:embed="rId2"/>
          <a:stretch/>
        </p:blipFill>
        <p:spPr>
          <a:xfrm>
            <a:off x="914400" y="3886200"/>
            <a:ext cx="3124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was ranke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li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doing business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uence of “the crisi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usa-economy3"/>
          <p:cNvPicPr/>
          <p:nvPr/>
        </p:nvPicPr>
        <p:blipFill>
          <a:blip r:embed="rId1"/>
          <a:stretch/>
        </p:blipFill>
        <p:spPr>
          <a:xfrm>
            <a:off x="380880" y="23623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mp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iger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Fe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Mad 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TinC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http://upload.wikimedia.org/wikipedia/en/d/d6/Fwfever.jpg"/>
          <p:cNvPicPr/>
          <p:nvPr/>
        </p:nvPicPr>
        <p:blipFill>
          <a:blip r:embed="rId1"/>
          <a:stretch/>
        </p:blipFill>
        <p:spPr>
          <a:xfrm>
            <a:off x="7419960" y="2438280"/>
            <a:ext cx="1266840" cy="163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MadAnts.PNG"/>
          <p:cNvPicPr/>
          <p:nvPr/>
        </p:nvPicPr>
        <p:blipFill>
          <a:blip r:embed="rId2"/>
          <a:stretch/>
        </p:blipFill>
        <p:spPr>
          <a:xfrm>
            <a:off x="5562720" y="411480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upload.wikimedia.org/wikipedia/en/9/95/FW_TinCaps.PNG"/>
          <p:cNvPicPr/>
          <p:nvPr/>
        </p:nvPicPr>
        <p:blipFill>
          <a:blip r:embed="rId3"/>
          <a:stretch/>
        </p:blipFill>
        <p:spPr>
          <a:xfrm>
            <a:off x="3809880" y="1809720"/>
            <a:ext cx="3419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7:09:33Z</dcterms:created>
  <dc:creator>*</dc:creator>
  <dc:description/>
  <dc:language>en-US</dc:language>
  <cp:lastModifiedBy>Otro</cp:lastModifiedBy>
  <dcterms:modified xsi:type="dcterms:W3CDTF">2010-07-12T16:38:54Z</dcterms:modified>
  <cp:revision>19</cp:revision>
  <dc:subject/>
  <dc:title>Diapositiva 1</dc:title>
</cp:coreProperties>
</file>