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C0AA-AAA6-401F-8DF2-D6FF73F57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33B-1A38-4009-9AC2-6BE45ACC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C6E1-8C9A-469F-B14A-07B7DF1A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A93-0E6E-48C4-BED8-29E42ECF7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2C97-3DB7-4183-9FAB-E00ABC00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7B82-0806-4D9A-8582-F474235AD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D3FC-2483-4C74-9375-0671E4B2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8A54-E635-47DA-983E-6F30FBABA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3868-0064-4954-80A0-682B5CB47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FBF3-826E-43F7-B19F-DEF419B1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14DF-8DA3-4BE9-94C5-521C7DC9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6524-6CBF-46DC-A527-4B01158B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17D0-A732-4610-980C-5FA51330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BBD-1588-4548-99DA-8D1ABABE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D6C5-94DF-469A-B081-49F4B9353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]15                         0 meno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661-3A76-48DF-ABED-26A0B7FD0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8EC1-5280-452C-8800-17A1E265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B0A7-3E38-4E1F-8983-DBCFD85E2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208B-0EFE-4B63-AED5-430DAC3D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9C7-217E-4E36-837A-D0E8A434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690-5C6B-4BA1-B4A8-22A1923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E49-6FD7-4EF9-A955-5C611A3B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FA3-450F-4A03-871E-5ACAEBEF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50B8-7515-4BF2-A010-E46E4BA9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F163-F077-4C8B-BCBA-3378E210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B71F-C4D6-44CD-934B-0B8B9523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9D27-DAF1-4C3F-9682-F7445B98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7EE-E003-4382-BD36-1318ACDB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718F-B151-46DA-9F2A-690A0553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62D7-27F0-48AB-91BF-86D6C118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F8D-ABC5-4F9D-B3E4-E51E983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586E-02A3-4573-B7B3-988C39AA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CE82-FFE2-4189-AD23-A622541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B94-E14E-4074-803A-B2640DA5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A111-679F-43E2-AE8B-B468C229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36A6-085E-48D5-88EF-A2D330ED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5B9-6733-4DBF-A03E-F6E51028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F08-049F-4DAC-A428-01AAF42B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8C3-56AC-422C-836D-51D6D23F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CF4-2B37-4FDC-B5F1-AA5BFC97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628-BC7A-4C29-B132-8558DBE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239-BA88-458F-B966-83FFADA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9DF-57A0-4942-A096-48414D6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9E2F-8115-4466-A800-685C32223E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6D5-46A2-4639-A538-F3871C1040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mage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t_wayne"/>
          <p:cNvPicPr/>
          <p:nvPr/>
        </p:nvPicPr>
        <p:blipFill>
          <a:blip r:embed="rId2"/>
          <a:stretch/>
        </p:blipFill>
        <p:spPr>
          <a:xfrm>
            <a:off x="1828800" y="2209680"/>
            <a:ext cx="5334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77575877_8b1c66ab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fwimag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Skyline-Headwaters_Park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fort-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ort-wayne-indiana-courthouse"/>
          <p:cNvPicPr/>
          <p:nvPr/>
        </p:nvPicPr>
        <p:blipFill>
          <a:blip r:embed="rId2"/>
          <a:stretch/>
        </p:blipFill>
        <p:spPr>
          <a:xfrm>
            <a:off x="0" y="0"/>
            <a:ext cx="9372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5055du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3422858-Skyline_at_night_from_Freimann_Square-Fort_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n84680669253_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9" descr="Imagen1"/>
          <p:cNvPicPr/>
          <p:nvPr/>
        </p:nvPicPr>
        <p:blipFill>
          <a:blip r:embed="rId1"/>
          <a:stretch/>
        </p:blipFill>
        <p:spPr>
          <a:xfrm>
            <a:off x="4419720" y="1752480"/>
            <a:ext cx="412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38480" y="1828440"/>
            <a:ext cx="54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te: Indian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unty: A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pulation: 255.890 inhabitan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nsity: 1006.1 hab/k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icial link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www.cityoffortwayne.c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ther nam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mm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ity of all church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 American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MC900299063[2]"/>
          <p:cNvPicPr/>
          <p:nvPr/>
        </p:nvPicPr>
        <p:blipFill>
          <a:blip r:embed="rId1"/>
          <a:stretch/>
        </p:blipFill>
        <p:spPr>
          <a:xfrm>
            <a:off x="506520" y="2209680"/>
            <a:ext cx="2998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43000" y="1771560"/>
            <a:ext cx="6248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22856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ies on fairly flat 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hills and dep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main rivers: St Mary river and St Joseph river and Maumee r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one is bathed by numerous lakes and p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207" descr="Imagen2"/>
          <p:cNvPicPr/>
          <p:nvPr/>
        </p:nvPicPr>
        <p:blipFill>
          <a:blip r:embed="rId1"/>
          <a:stretch/>
        </p:blipFill>
        <p:spPr>
          <a:xfrm>
            <a:off x="4724280" y="2309760"/>
            <a:ext cx="4125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3843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http://www.ft-wayne.in.us/home/graphics/hisphoto.gif"/>
          <p:cNvPicPr/>
          <p:nvPr/>
        </p:nvPicPr>
        <p:blipFill>
          <a:blip r:embed="rId1"/>
          <a:stretch/>
        </p:blipFill>
        <p:spPr>
          <a:xfrm>
            <a:off x="3581280" y="4267080"/>
            <a:ext cx="156240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File:Little Turtle.jpg"/>
          <p:cNvPicPr/>
          <p:nvPr/>
        </p:nvPicPr>
        <p:blipFill>
          <a:blip r:embed="rId2"/>
          <a:stretch/>
        </p:blipFill>
        <p:spPr>
          <a:xfrm>
            <a:off x="5753160" y="1828800"/>
            <a:ext cx="3009960" cy="39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ttp://upload.wikimedia.org/wikipedia/commons/f/f3/Anthony_Wayne.jpg"/>
          <p:cNvPicPr/>
          <p:nvPr/>
        </p:nvPicPr>
        <p:blipFill>
          <a:blip r:embed="rId3"/>
          <a:stretch/>
        </p:blipFill>
        <p:spPr>
          <a:xfrm>
            <a:off x="714240" y="1905120"/>
            <a:ext cx="250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or:Tom Hen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distri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lass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180px-Thomas_Henry_2008"/>
          <p:cNvPicPr/>
          <p:nvPr/>
        </p:nvPicPr>
        <p:blipFill>
          <a:blip r:embed="rId1"/>
          <a:stretch/>
        </p:blipFill>
        <p:spPr>
          <a:xfrm>
            <a:off x="5257800" y="2095560"/>
            <a:ext cx="2209680" cy="369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nkey-democrat-logo copy"/>
          <p:cNvPicPr/>
          <p:nvPr/>
        </p:nvPicPr>
        <p:blipFill>
          <a:blip r:embed="rId2"/>
          <a:stretch/>
        </p:blipFill>
        <p:spPr>
          <a:xfrm>
            <a:off x="914400" y="3886200"/>
            <a:ext cx="3124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was ranke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li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doing business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uence of “the crisi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usa-economy3"/>
          <p:cNvPicPr/>
          <p:nvPr/>
        </p:nvPicPr>
        <p:blipFill>
          <a:blip r:embed="rId1"/>
          <a:stretch/>
        </p:blipFill>
        <p:spPr>
          <a:xfrm>
            <a:off x="380880" y="23623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mp g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iger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Fe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Mad 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TinC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http://upload.wikimedia.org/wikipedia/en/d/d6/Fwfever.jpg"/>
          <p:cNvPicPr/>
          <p:nvPr/>
        </p:nvPicPr>
        <p:blipFill>
          <a:blip r:embed="rId1"/>
          <a:stretch/>
        </p:blipFill>
        <p:spPr>
          <a:xfrm>
            <a:off x="7419960" y="2438280"/>
            <a:ext cx="1266840" cy="163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MadAnts.PNG"/>
          <p:cNvPicPr/>
          <p:nvPr/>
        </p:nvPicPr>
        <p:blipFill>
          <a:blip r:embed="rId2"/>
          <a:stretch/>
        </p:blipFill>
        <p:spPr>
          <a:xfrm>
            <a:off x="5562720" y="411480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upload.wikimedia.org/wikipedia/en/9/95/FW_TinCaps.PNG"/>
          <p:cNvPicPr/>
          <p:nvPr/>
        </p:nvPicPr>
        <p:blipFill>
          <a:blip r:embed="rId3"/>
          <a:stretch/>
        </p:blipFill>
        <p:spPr>
          <a:xfrm>
            <a:off x="3809880" y="1809720"/>
            <a:ext cx="3419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7:09:33Z</dcterms:created>
  <dc:creator>*</dc:creator>
  <dc:description/>
  <dc:language>en-US</dc:language>
  <cp:lastModifiedBy>Otro</cp:lastModifiedBy>
  <dcterms:modified xsi:type="dcterms:W3CDTF">2010-07-12T16:38:54Z</dcterms:modified>
  <cp:revision>19</cp:revision>
  <dc:subject/>
  <dc:title>Diapositiva 1</dc:title>
</cp:coreProperties>
</file>