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5B75-B431-46E6-942E-42BD18556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C8DA-4221-4FB9-BED4-AF0A31834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013C-8357-42BF-911A-7B671C9CD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1B7D-872F-46C0-BCDB-3449D6E43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891F-5079-4F6F-9F4C-2944F83BD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276B-0EBC-42A3-8311-686F7E547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0EF2-D268-4E54-A6CA-0519E523E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18F4-DAF0-42C9-84B0-7092CF311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A206-5A64-4B23-8379-93EC4C741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782A-A23A-4443-9C2A-42078E6D1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C3DC-AF32-4399-85AB-DF84A3F25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9FCE-2D77-4B8B-8117-A4EB8E2AA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5E42-F40F-4576-9F20-68261C6D8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9DFC-8248-4123-B185-E8DEEB674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36C9-7FF0-4458-A471-3091643F5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]15                         0 menos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4A65-4D04-4E0A-838D-C8FEE46CA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B8B2-9A6C-45A3-9579-3F8174576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5788-CED4-4585-BD4C-E603AD45B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53CD-EFAF-4C10-9960-8416160F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F58-C85E-4575-8D0D-D93B3D6C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725-08DF-42BF-9488-B97AB783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C87-39EF-4E50-AD57-76CD0F6D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0F0-DD53-471D-B7F3-145E5335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3D2A-10AB-46C9-85D4-C477F483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A66B-57AF-4504-917F-A22AF2BE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8164-A7EB-4D0F-834F-E860F364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4BD8-14FB-40EB-A3B1-8106E4A7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9DFD-2307-48A1-ACEF-8122E025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3BBB-AE60-4898-BEA7-4D792489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5B34-18C8-4936-BF2F-E173A2AF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76B-06AE-45F7-9E66-00898AB8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D954-BC78-4E7B-AA74-A656FEF7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B473-2612-41D5-AA2D-1471ED9F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89AE-0F42-496E-A02B-62139EAE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F42C-F2A6-4EF5-95DA-EEEE29A1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87B4-B1B4-4BE6-8179-F120A915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E49-AD8B-4B50-8444-964E287F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1EF-F0BD-45F2-943C-CA65E114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7A6-5E94-4066-AC08-A58E7737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7FA-8AB2-46D0-A24A-395E562C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FCB-AD6C-4FB6-BE12-90D7607D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C19-CF33-4B80-A783-CEAC166F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6D2-1B9A-4BCE-897D-FC1C4A84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AB4A-CC34-4701-A942-ACA8C298A3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C37F-9839-4AE5-8116-534E58C4C2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Imagen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laces to vis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6" descr="ft_wayne"/>
          <p:cNvPicPr/>
          <p:nvPr/>
        </p:nvPicPr>
        <p:blipFill>
          <a:blip r:embed="rId2"/>
          <a:stretch/>
        </p:blipFill>
        <p:spPr>
          <a:xfrm>
            <a:off x="1828800" y="2209680"/>
            <a:ext cx="533412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177575877_8b1c66ab0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fwimages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Skyline-Headwaters_Park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5" descr="fort-wayne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Fort-wayne-indiana-courthouse"/>
          <p:cNvPicPr/>
          <p:nvPr/>
        </p:nvPicPr>
        <p:blipFill>
          <a:blip r:embed="rId2"/>
          <a:stretch/>
        </p:blipFill>
        <p:spPr>
          <a:xfrm>
            <a:off x="0" y="0"/>
            <a:ext cx="9372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5055du0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3422858-Skyline_at_night_from_Freimann_Square-Fort_Wayn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5" descr="n84680669253_509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640" y="1752480"/>
            <a:ext cx="5300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 Infor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ograph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ces to vis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9" descr="Imagen1"/>
          <p:cNvPicPr/>
          <p:nvPr/>
        </p:nvPicPr>
        <p:blipFill>
          <a:blip r:embed="rId1"/>
          <a:stretch/>
        </p:blipFill>
        <p:spPr>
          <a:xfrm>
            <a:off x="4419720" y="1752480"/>
            <a:ext cx="41227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Inform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038480" y="1828440"/>
            <a:ext cx="54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te: Indian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unty: Alle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opulation: 255.890 inhabitan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ensity: 1006.1 hab/k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fficial link: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www.cityoffortwayne.co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ther names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mmi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city of all church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l American ci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182844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MC900299063[2]"/>
          <p:cNvPicPr/>
          <p:nvPr/>
        </p:nvPicPr>
        <p:blipFill>
          <a:blip r:embed="rId1"/>
          <a:stretch/>
        </p:blipFill>
        <p:spPr>
          <a:xfrm>
            <a:off x="506520" y="2209680"/>
            <a:ext cx="2998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p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1143000" y="1771560"/>
            <a:ext cx="62485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ograp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228564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lies on fairly flat ar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w hills and depre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main rivers: St Mary river and St Joseph river and Maumee ri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zone is bathed by numerous lakes and pon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207" descr="Imagen2"/>
          <p:cNvPicPr/>
          <p:nvPr/>
        </p:nvPicPr>
        <p:blipFill>
          <a:blip r:embed="rId1"/>
          <a:stretch/>
        </p:blipFill>
        <p:spPr>
          <a:xfrm>
            <a:off x="4724280" y="2309760"/>
            <a:ext cx="41259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05320" y="1752480"/>
            <a:ext cx="3843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V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VI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79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9" descr="http://www.ft-wayne.in.us/home/graphics/hisphoto.gif"/>
          <p:cNvPicPr/>
          <p:nvPr/>
        </p:nvPicPr>
        <p:blipFill>
          <a:blip r:embed="rId1"/>
          <a:stretch/>
        </p:blipFill>
        <p:spPr>
          <a:xfrm>
            <a:off x="3581280" y="4267080"/>
            <a:ext cx="1562400" cy="158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File:Little Turtle.jpg"/>
          <p:cNvPicPr/>
          <p:nvPr/>
        </p:nvPicPr>
        <p:blipFill>
          <a:blip r:embed="rId2"/>
          <a:stretch/>
        </p:blipFill>
        <p:spPr>
          <a:xfrm>
            <a:off x="5753160" y="1828800"/>
            <a:ext cx="3009960" cy="3997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http://upload.wikimedia.org/wikipedia/commons/f/f3/Anthony_Wayne.jpg"/>
          <p:cNvPicPr/>
          <p:nvPr/>
        </p:nvPicPr>
        <p:blipFill>
          <a:blip r:embed="rId3"/>
          <a:stretch/>
        </p:blipFill>
        <p:spPr>
          <a:xfrm>
            <a:off x="714240" y="1905120"/>
            <a:ext cx="250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157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cr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yor:Tom Hen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 distri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class c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180px-Thomas_Henry_2008"/>
          <p:cNvPicPr/>
          <p:nvPr/>
        </p:nvPicPr>
        <p:blipFill>
          <a:blip r:embed="rId1"/>
          <a:stretch/>
        </p:blipFill>
        <p:spPr>
          <a:xfrm>
            <a:off x="5257800" y="2095560"/>
            <a:ext cx="2209680" cy="3695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donkey-democrat-logo copy"/>
          <p:cNvPicPr/>
          <p:nvPr/>
        </p:nvPicPr>
        <p:blipFill>
          <a:blip r:embed="rId2"/>
          <a:stretch/>
        </p:blipFill>
        <p:spPr>
          <a:xfrm>
            <a:off x="914400" y="3886200"/>
            <a:ext cx="3124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00240" y="2209680"/>
            <a:ext cx="4157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ity was ranked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cost of li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cost of doing business 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luence of “the crisi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usa-economy3"/>
          <p:cNvPicPr/>
          <p:nvPr/>
        </p:nvPicPr>
        <p:blipFill>
          <a:blip r:embed="rId1"/>
          <a:stretch/>
        </p:blipFill>
        <p:spPr>
          <a:xfrm>
            <a:off x="380880" y="2362320"/>
            <a:ext cx="38102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9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ion of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mp g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rigera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i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Fe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Mad A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TinCap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5" descr="http://upload.wikimedia.org/wikipedia/en/d/d6/Fwfever.jpg"/>
          <p:cNvPicPr/>
          <p:nvPr/>
        </p:nvPicPr>
        <p:blipFill>
          <a:blip r:embed="rId1"/>
          <a:stretch/>
        </p:blipFill>
        <p:spPr>
          <a:xfrm>
            <a:off x="7419960" y="2438280"/>
            <a:ext cx="1266840" cy="163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ile:MadAnts.PNG"/>
          <p:cNvPicPr/>
          <p:nvPr/>
        </p:nvPicPr>
        <p:blipFill>
          <a:blip r:embed="rId2"/>
          <a:stretch/>
        </p:blipFill>
        <p:spPr>
          <a:xfrm>
            <a:off x="5562720" y="4114800"/>
            <a:ext cx="3095640" cy="1790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http://upload.wikimedia.org/wikipedia/en/9/95/FW_TinCaps.PNG"/>
          <p:cNvPicPr/>
          <p:nvPr/>
        </p:nvPicPr>
        <p:blipFill>
          <a:blip r:embed="rId3"/>
          <a:stretch/>
        </p:blipFill>
        <p:spPr>
          <a:xfrm>
            <a:off x="3809880" y="1809720"/>
            <a:ext cx="3419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7:09:33Z</dcterms:created>
  <dc:creator>*</dc:creator>
  <dc:description/>
  <dc:language>en-US</dc:language>
  <cp:lastModifiedBy>Otro</cp:lastModifiedBy>
  <dcterms:modified xsi:type="dcterms:W3CDTF">2010-07-12T16:38:54Z</dcterms:modified>
  <cp:revision>19</cp:revision>
  <dc:subject/>
  <dc:title>Diapositiva 1</dc:title>
</cp:coreProperties>
</file>