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DCC-D138-4334-BFCC-73316CBC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45F1-20EA-4480-B83F-0D9D8C0B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5183-D1A9-4AD3-A320-8F293E84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DFC-585B-439B-99C5-4E5F3498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6EC-7D41-4B61-9761-787B4C73F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2DB0-ECCF-4E2F-817E-DBB3E76D3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56C-DDE8-4608-B3B5-A61F7936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B16-2F14-4449-AA48-AC3A48E2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E15-B77D-477F-887B-15C4DB0DD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4998-290F-45CF-84E0-13664D65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F2E2-486C-4403-9C7C-CEE62828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B21-B4FF-4F69-A294-96BDBBD6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D79-62F2-47B2-8EFF-223C764A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396-3C40-491F-890A-3C00B660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0B4D-C021-4306-9501-FE33FDC6C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]15                         0 menos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B887-40ED-41E9-9A02-F94B870C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3E5-784C-4E8A-9E12-AE62A88E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FFC7-6685-435A-9ACF-6E288C5B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8CC0-E412-403B-92B3-F81A640E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543-DF83-4FBE-846A-6832CDD8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C1D-33C6-4F4C-A8B6-EC84F7D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BC1-9B99-41B4-8A51-3FF6E2F6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0E6-3962-42C9-BE91-69531F93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D200-102A-4231-B01B-2911D994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DC54-CA63-4276-94CB-A5197DB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223-B14E-45ED-ADED-45C18B4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7C1-4CD5-4E7D-8539-8DB36D47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2767-2F0C-4B44-AD98-9365A972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38ED-A4CE-416E-89DA-BC4DAA7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317-8401-4027-80EA-7AE01A6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02E-6423-4FB6-A425-EF1C296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244-9046-433F-9B32-3426D44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1432-2A5E-40E6-97EC-DC998BA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8B8-03FF-4CBD-BCAA-5194A80A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E52-8186-425E-9FC7-94DBE8A4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0B5-399A-43D8-87FB-9EC67FFA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165-7F8F-4EF0-B8D2-4A077DFA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111-BB1F-4BAC-8393-EE0F147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0A8-B664-4440-9C4C-BC2AE33A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D5C-BB3C-4ADD-AA78-138EAD10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E79-BEFD-4646-AB33-1A0A17BA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A32-0A42-444E-96F0-4AFD60B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E2C-E58D-400E-96E0-709DC7B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BBDF-68E1-4F89-82B5-350A5C1D30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E97A-4FD1-487D-952E-39D117E823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mage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ft_wayne"/>
          <p:cNvPicPr/>
          <p:nvPr/>
        </p:nvPicPr>
        <p:blipFill>
          <a:blip r:embed="rId2"/>
          <a:stretch/>
        </p:blipFill>
        <p:spPr>
          <a:xfrm>
            <a:off x="1828800" y="2209680"/>
            <a:ext cx="53341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177575877_8b1c66ab0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fwimag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Skyline-Headwaters_Park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fort-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ort-wayne-indiana-courthouse"/>
          <p:cNvPicPr/>
          <p:nvPr/>
        </p:nvPicPr>
        <p:blipFill>
          <a:blip r:embed="rId2"/>
          <a:stretch/>
        </p:blipFill>
        <p:spPr>
          <a:xfrm>
            <a:off x="0" y="0"/>
            <a:ext cx="9372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5055du0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3422858-Skyline_at_night_from_Freimann_Square-Fort_Way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Fort Way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n84680669253_5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640" y="1752480"/>
            <a:ext cx="530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9" descr="Imagen1"/>
          <p:cNvPicPr/>
          <p:nvPr/>
        </p:nvPicPr>
        <p:blipFill>
          <a:blip r:embed="rId1"/>
          <a:stretch/>
        </p:blipFill>
        <p:spPr>
          <a:xfrm>
            <a:off x="4419720" y="1752480"/>
            <a:ext cx="4122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38480" y="1828440"/>
            <a:ext cx="54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te: India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nty: Alle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pulation: 255.890 inhabitan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ensity: 1006.1 hab/km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fficial link: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www.cityoffortwayne.c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ther nam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mm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ity of all church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 American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MC900299063[2]"/>
          <p:cNvPicPr/>
          <p:nvPr/>
        </p:nvPicPr>
        <p:blipFill>
          <a:blip r:embed="rId1"/>
          <a:stretch/>
        </p:blipFill>
        <p:spPr>
          <a:xfrm>
            <a:off x="506520" y="2209680"/>
            <a:ext cx="2998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43000" y="1771560"/>
            <a:ext cx="62485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ograp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22856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lies on fairly flat ar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hills and depre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main rivers: St Mary river and St Joseph river and Maumee riv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zone is bathed by numerous lakes and p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207" descr="Imagen2"/>
          <p:cNvPicPr/>
          <p:nvPr/>
        </p:nvPicPr>
        <p:blipFill>
          <a:blip r:embed="rId1"/>
          <a:stretch/>
        </p:blipFill>
        <p:spPr>
          <a:xfrm>
            <a:off x="4724280" y="2309760"/>
            <a:ext cx="4125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3843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VI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. X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http://www.ft-wayne.in.us/home/graphics/hisphoto.gif"/>
          <p:cNvPicPr/>
          <p:nvPr/>
        </p:nvPicPr>
        <p:blipFill>
          <a:blip r:embed="rId1"/>
          <a:stretch/>
        </p:blipFill>
        <p:spPr>
          <a:xfrm>
            <a:off x="3581280" y="4267080"/>
            <a:ext cx="156240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File:Little Turtle.jpg"/>
          <p:cNvPicPr/>
          <p:nvPr/>
        </p:nvPicPr>
        <p:blipFill>
          <a:blip r:embed="rId2"/>
          <a:stretch/>
        </p:blipFill>
        <p:spPr>
          <a:xfrm>
            <a:off x="5753160" y="1828800"/>
            <a:ext cx="3009960" cy="39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ttp://upload.wikimedia.org/wikipedia/commons/f/f3/Anthony_Wayne.jpg"/>
          <p:cNvPicPr/>
          <p:nvPr/>
        </p:nvPicPr>
        <p:blipFill>
          <a:blip r:embed="rId3"/>
          <a:stretch/>
        </p:blipFill>
        <p:spPr>
          <a:xfrm>
            <a:off x="714240" y="1905120"/>
            <a:ext cx="250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cr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yor:Tom Hen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distri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lass 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180px-Thomas_Henry_2008"/>
          <p:cNvPicPr/>
          <p:nvPr/>
        </p:nvPicPr>
        <p:blipFill>
          <a:blip r:embed="rId1"/>
          <a:stretch/>
        </p:blipFill>
        <p:spPr>
          <a:xfrm>
            <a:off x="5257800" y="2095560"/>
            <a:ext cx="2209680" cy="369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onkey-democrat-logo copy"/>
          <p:cNvPicPr/>
          <p:nvPr/>
        </p:nvPicPr>
        <p:blipFill>
          <a:blip r:embed="rId2"/>
          <a:stretch/>
        </p:blipFill>
        <p:spPr>
          <a:xfrm>
            <a:off x="914400" y="3886200"/>
            <a:ext cx="3124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4157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was ranked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li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cost of doing business 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luence of “the crisi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usa-economy3"/>
          <p:cNvPicPr/>
          <p:nvPr/>
        </p:nvPicPr>
        <p:blipFill>
          <a:blip r:embed="rId1"/>
          <a:stretch/>
        </p:blipFill>
        <p:spPr>
          <a:xfrm>
            <a:off x="380880" y="236232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mp g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iger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Fe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Mad 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t Wayne TinC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5" descr="http://upload.wikimedia.org/wikipedia/en/d/d6/Fwfever.jpg"/>
          <p:cNvPicPr/>
          <p:nvPr/>
        </p:nvPicPr>
        <p:blipFill>
          <a:blip r:embed="rId1"/>
          <a:stretch/>
        </p:blipFill>
        <p:spPr>
          <a:xfrm>
            <a:off x="7419960" y="2438280"/>
            <a:ext cx="1266840" cy="163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MadAnts.PNG"/>
          <p:cNvPicPr/>
          <p:nvPr/>
        </p:nvPicPr>
        <p:blipFill>
          <a:blip r:embed="rId2"/>
          <a:stretch/>
        </p:blipFill>
        <p:spPr>
          <a:xfrm>
            <a:off x="5562720" y="4114800"/>
            <a:ext cx="3095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upload.wikimedia.org/wikipedia/en/9/95/FW_TinCaps.PNG"/>
          <p:cNvPicPr/>
          <p:nvPr/>
        </p:nvPicPr>
        <p:blipFill>
          <a:blip r:embed="rId3"/>
          <a:stretch/>
        </p:blipFill>
        <p:spPr>
          <a:xfrm>
            <a:off x="3809880" y="1809720"/>
            <a:ext cx="3419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7:09:33Z</dcterms:created>
  <dc:creator>*</dc:creator>
  <dc:description/>
  <dc:language>en-US</dc:language>
  <cp:lastModifiedBy>Otro</cp:lastModifiedBy>
  <dcterms:modified xsi:type="dcterms:W3CDTF">2010-07-12T16:38:54Z</dcterms:modified>
  <cp:revision>19</cp:revision>
  <dc:subject/>
  <dc:title>Diapositiva 1</dc:title>
</cp:coreProperties>
</file>