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CC2F-1249-4A05-99A5-427FE2E6B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CBA2-7CBD-41BB-AD43-2AD2B567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6665-690C-46FB-8644-19D38F36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7FD4-2A4E-49E5-AAD6-8FBCEB7A0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1AED-5C1A-45B9-8234-8CB29814B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4B55-CC62-433B-BC2F-FE6414C80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3D30-175A-4E9C-9A38-0818E80E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DBBD-B15E-49D8-807E-F1982F159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D0F3-1B48-4BE5-87B6-331723CD3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C7BD-DA1F-412D-96B4-84086289F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007A-4C7F-4A75-842E-C51C4F3EE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272B-05CD-4E28-BB69-A23DFE45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8D93-BD17-4758-A454-D0B7AE627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2148-FF7C-4431-904F-34D60BA4A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E3A0-0FDE-4F49-B57C-FF6881FE9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]15                         0 menos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D07D-CB64-458F-8822-DB5714991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6401-C17B-4268-BEC9-9B726C10E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DF64-6E91-429D-A2FD-04F0F44CA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AED2-C050-436F-8CD6-1691FCF49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D78-0C82-492C-9155-64B9E0BE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533-A42A-41A1-9D38-67DCD182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A5A-6389-4696-8CF2-76848F05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E1F-F4FF-42B6-B6F9-0F847643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026C-84BA-4237-B1C7-59906B5E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D64C-75AF-41F9-8905-B0969D7F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E324-7329-4031-AD83-74A3C879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EE29-ED39-4D52-AA95-F91AD860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DE1A-CA28-4AD2-98DC-FD2C1A70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FF39-8EBC-4D63-936E-F7DB1C99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A3C0-9275-4236-89C8-1CF5CF8F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F67-CEBF-4601-AAF9-D024D648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B69E-0CC8-41AF-BAC9-8C7552CD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5BEA-7EDC-457C-BC80-FD07866E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F78F-DC51-48CD-94B4-96F60317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B20F-44A1-4656-BDFB-E819113E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0D72-0367-4B9A-AD7A-D3C1B591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DEC-D24B-4B6A-B496-E7227B1B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087-510B-4A25-B397-100D312A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5E9-B926-4D9E-BFDD-972D2793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75C-602D-436A-A07E-3C11A498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136-9950-4EE2-8A75-4AA8C264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76C-3E58-4CDE-A21B-25B3FE0B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A0F-1A69-4904-80FA-30D9F40F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3D60-0364-461F-B88E-0A7A23BB39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1645-F626-4F56-9576-4E6DE0B702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Imagen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ces to vis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ft_wayne"/>
          <p:cNvPicPr/>
          <p:nvPr/>
        </p:nvPicPr>
        <p:blipFill>
          <a:blip r:embed="rId2"/>
          <a:stretch/>
        </p:blipFill>
        <p:spPr>
          <a:xfrm>
            <a:off x="1828800" y="2209680"/>
            <a:ext cx="53341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177575877_8b1c66ab0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fwimage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Skyline-Headwaters_Park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fort-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Fort-wayne-indiana-courthouse"/>
          <p:cNvPicPr/>
          <p:nvPr/>
        </p:nvPicPr>
        <p:blipFill>
          <a:blip r:embed="rId2"/>
          <a:stretch/>
        </p:blipFill>
        <p:spPr>
          <a:xfrm>
            <a:off x="0" y="0"/>
            <a:ext cx="9372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5055du0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3422858-Skyline_at_night_from_Freimann_Square-Fort_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n84680669253_50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640" y="1752480"/>
            <a:ext cx="5300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ces to vis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9" descr="Imagen1"/>
          <p:cNvPicPr/>
          <p:nvPr/>
        </p:nvPicPr>
        <p:blipFill>
          <a:blip r:embed="rId1"/>
          <a:stretch/>
        </p:blipFill>
        <p:spPr>
          <a:xfrm>
            <a:off x="4419720" y="1752480"/>
            <a:ext cx="4122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38480" y="1828440"/>
            <a:ext cx="54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te: Indian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unty: All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opulation: 255.890 inhabitan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ensity: 1006.1 hab/k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fficial link: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www.cityoffortwayne.co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ther name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mmi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city of all church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 American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8284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MC900299063[2]"/>
          <p:cNvPicPr/>
          <p:nvPr/>
        </p:nvPicPr>
        <p:blipFill>
          <a:blip r:embed="rId1"/>
          <a:stretch/>
        </p:blipFill>
        <p:spPr>
          <a:xfrm>
            <a:off x="506520" y="2209680"/>
            <a:ext cx="2998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143000" y="1771560"/>
            <a:ext cx="62485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22856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lies on fairly flat ar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w hills and depre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main rivers: St Mary river and St Joseph river and Maumee ri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zone is bathed by numerous lakes and pon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207" descr="Imagen2"/>
          <p:cNvPicPr/>
          <p:nvPr/>
        </p:nvPicPr>
        <p:blipFill>
          <a:blip r:embed="rId1"/>
          <a:stretch/>
        </p:blipFill>
        <p:spPr>
          <a:xfrm>
            <a:off x="4724280" y="2309760"/>
            <a:ext cx="41259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3843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79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9" descr="http://www.ft-wayne.in.us/home/graphics/hisphoto.gif"/>
          <p:cNvPicPr/>
          <p:nvPr/>
        </p:nvPicPr>
        <p:blipFill>
          <a:blip r:embed="rId1"/>
          <a:stretch/>
        </p:blipFill>
        <p:spPr>
          <a:xfrm>
            <a:off x="3581280" y="4267080"/>
            <a:ext cx="1562400" cy="158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File:Little Turtle.jpg"/>
          <p:cNvPicPr/>
          <p:nvPr/>
        </p:nvPicPr>
        <p:blipFill>
          <a:blip r:embed="rId2"/>
          <a:stretch/>
        </p:blipFill>
        <p:spPr>
          <a:xfrm>
            <a:off x="5753160" y="1828800"/>
            <a:ext cx="3009960" cy="399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http://upload.wikimedia.org/wikipedia/commons/f/f3/Anthony_Wayne.jpg"/>
          <p:cNvPicPr/>
          <p:nvPr/>
        </p:nvPicPr>
        <p:blipFill>
          <a:blip r:embed="rId3"/>
          <a:stretch/>
        </p:blipFill>
        <p:spPr>
          <a:xfrm>
            <a:off x="714240" y="1905120"/>
            <a:ext cx="250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cr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or:Tom Hen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 distri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class c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180px-Thomas_Henry_2008"/>
          <p:cNvPicPr/>
          <p:nvPr/>
        </p:nvPicPr>
        <p:blipFill>
          <a:blip r:embed="rId1"/>
          <a:stretch/>
        </p:blipFill>
        <p:spPr>
          <a:xfrm>
            <a:off x="5257800" y="2095560"/>
            <a:ext cx="2209680" cy="369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onkey-democrat-logo copy"/>
          <p:cNvPicPr/>
          <p:nvPr/>
        </p:nvPicPr>
        <p:blipFill>
          <a:blip r:embed="rId2"/>
          <a:stretch/>
        </p:blipFill>
        <p:spPr>
          <a:xfrm>
            <a:off x="914400" y="3886200"/>
            <a:ext cx="3124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ity was ranked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li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doing business 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uence of “the crisi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usa-economy3"/>
          <p:cNvPicPr/>
          <p:nvPr/>
        </p:nvPicPr>
        <p:blipFill>
          <a:blip r:embed="rId1"/>
          <a:stretch/>
        </p:blipFill>
        <p:spPr>
          <a:xfrm>
            <a:off x="380880" y="2362320"/>
            <a:ext cx="38102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mp g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riger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i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Fe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Mad A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TinCa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http://upload.wikimedia.org/wikipedia/en/d/d6/Fwfever.jpg"/>
          <p:cNvPicPr/>
          <p:nvPr/>
        </p:nvPicPr>
        <p:blipFill>
          <a:blip r:embed="rId1"/>
          <a:stretch/>
        </p:blipFill>
        <p:spPr>
          <a:xfrm>
            <a:off x="7419960" y="2438280"/>
            <a:ext cx="1266840" cy="163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MadAnts.PNG"/>
          <p:cNvPicPr/>
          <p:nvPr/>
        </p:nvPicPr>
        <p:blipFill>
          <a:blip r:embed="rId2"/>
          <a:stretch/>
        </p:blipFill>
        <p:spPr>
          <a:xfrm>
            <a:off x="5562720" y="4114800"/>
            <a:ext cx="3095640" cy="179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upload.wikimedia.org/wikipedia/en/9/95/FW_TinCaps.PNG"/>
          <p:cNvPicPr/>
          <p:nvPr/>
        </p:nvPicPr>
        <p:blipFill>
          <a:blip r:embed="rId3"/>
          <a:stretch/>
        </p:blipFill>
        <p:spPr>
          <a:xfrm>
            <a:off x="3809880" y="1809720"/>
            <a:ext cx="3419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7:09:33Z</dcterms:created>
  <dc:creator>*</dc:creator>
  <dc:description/>
  <dc:language>en-US</dc:language>
  <cp:lastModifiedBy>Otro</cp:lastModifiedBy>
  <dcterms:modified xsi:type="dcterms:W3CDTF">2010-07-12T16:38:54Z</dcterms:modified>
  <cp:revision>19</cp:revision>
  <dc:subject/>
  <dc:title>Diapositiva 1</dc:title>
</cp:coreProperties>
</file>